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02305"/>
        <c:axId val="78875480"/>
      </c:barChart>
      <c:catAx>
        <c:axId val="94002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75480"/>
        <c:crosses val="autoZero"/>
        <c:auto val="1"/>
        <c:lblAlgn val="ctr"/>
        <c:lblOffset val="100"/>
        <c:noMultiLvlLbl val="0"/>
      </c:catAx>
      <c:valAx>
        <c:axId val="78875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02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1D4-D9EE-4758-B5DF-47276EC9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182-DF5E-4A21-9888-F3DB2FD4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00C-586E-4064-80F9-A08E1EAB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AAA-9532-43C1-9415-D1B5DED5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152-CCCE-4E1D-8C3F-162CC89F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624-C7DF-406C-9886-3436F639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8C7-47A2-4A74-BD83-54ABB02B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CC1-B2DD-43AE-B1A3-E9027500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ED9-5974-4AAE-8B92-3AE541ED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54F-CA66-4DEA-AD3D-1D507D9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9D4-D705-4EFF-9E0F-3B1FB61F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14D-489C-4586-B29E-F8FBC0F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7DA6-747C-4932-B2D9-1A499F7BF8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