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13105"/>
        <c:axId val="69363883"/>
      </c:barChart>
      <c:catAx>
        <c:axId val="49813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63883"/>
        <c:crosses val="autoZero"/>
        <c:auto val="1"/>
        <c:lblAlgn val="ctr"/>
        <c:lblOffset val="100"/>
        <c:noMultiLvlLbl val="0"/>
      </c:catAx>
      <c:valAx>
        <c:axId val="69363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13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F4B-6568-4B6B-82CA-1A7313DA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061-D02A-4A9A-B34A-0B5C870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267-044B-4083-90C5-C9B6FA62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3C8-FE22-474B-B0F7-CCE710DE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279-4C7B-424B-8686-AD08F03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055-8549-4F74-9B65-A7B8905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80F-9737-4ED0-BD32-8AC588BD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C6B-B828-42F5-AACA-F07293C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443-E3CA-4B62-A67F-8E02485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BAD-7DD0-461B-A74D-B1C6217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FAC-7453-4944-B4A1-C32B8D1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6FF-AAF9-4A07-A295-90F27BE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8C4D5-C370-42BE-979D-0AA03A4F76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