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DB9F-AF1A-42D0-825F-80C7FCA31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B208-FB0A-48B9-8570-F8086A22B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F9D2-BD14-42E6-8F7B-DC91F3A54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0FCB-9FDC-40BB-8BE8-81C040CED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EA86-FC62-48F6-96AF-80A4C824C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CD09-126A-4750-87DF-F32048A23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0EB9-6E9B-4821-96BA-57EEF66EE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3271-3C20-48BD-9C31-119AF10EE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A850-5BF9-466B-BC0E-E1417D0B3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7816-8B77-4339-81E0-A2AD214AD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4062-FD13-41C0-BCBF-C95C98CB4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4701-96FE-4DF0-B1DC-2A8228537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7F6BE-728F-4CF1-9044-5665D8469F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295280"/>
            <a:ext cx="3733920" cy="685800"/>
          </a:xfrm>
          <a:prstGeom prst="cloudCallout">
            <a:avLst>
              <a:gd name="adj1" fmla="val -38902"/>
              <a:gd name="adj2" fmla="val 1608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2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537000" y="4713120"/>
            <a:ext cx="3581280" cy="48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 reci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4-11-07T16:47:07Z</dcterms:modified>
  <cp:revision>43</cp:revision>
  <dc:subject/>
  <dc:title>PowerPoint Presentation</dc:title>
</cp:coreProperties>
</file>