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84625"/>
        <c:axId val="58827308"/>
      </c:barChart>
      <c:catAx>
        <c:axId val="18784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27308"/>
        <c:crosses val="autoZero"/>
        <c:auto val="1"/>
        <c:lblAlgn val="ctr"/>
        <c:lblOffset val="100"/>
        <c:noMultiLvlLbl val="0"/>
      </c:catAx>
      <c:valAx>
        <c:axId val="58827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84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119-8308-4625-A781-0DF7ACE2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57D-99D3-44B2-9E09-0FB1CC55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A86-158B-4DB9-AB72-68556868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6E8-B6B2-49C8-BDF0-CA4C06E6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C6B-A1D2-441F-8425-4A11C99E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4DC-6D41-4D2B-BD63-600438A9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73D-125B-403B-84DC-C4A05070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927-ADFB-4894-A057-EC13B481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51A-E867-480F-92CD-D5C91469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B52-25E3-40A2-8020-CE33B017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8F3-7053-4CB7-9588-51A641B1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3FF-2C73-474F-BE29-D14D8A20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02763-48C6-477D-8C83-CDC2A4EC93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