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AA523-07C7-4CB2-8D63-C75D00E6D7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9A90F-EE53-4B19-AF4F-029F423798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D95D2-6F1D-4FB9-BBD5-EBD36206D9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7E813-8DE6-4BEE-A3EC-48CF07E83C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CA911-C095-4294-AF97-A6ADAA6C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F59FD-405D-4C74-9406-040AD7870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FA3512-7828-46D3-9831-8EEDA615C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152733-0182-4553-9ABF-8D057CB3B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D76D7-655C-4733-ABF8-B9C6AD049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EB353-BB47-4F0A-9438-BE43E92F6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8339BF-35D0-4D53-90C0-03C26203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FD85-23B0-4AD7-884D-A4574CD7BE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CF415A-39DF-4349-9B16-9DC311546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DFA68-332A-4558-A839-04CF442F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8BE47-D698-470C-B410-47B38C6DA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D5CAA-5543-4ED9-8510-47EFC552A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E9386E-8771-4A05-B78E-BB316F2D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42A5-9387-414E-B381-E46769AF52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0AE6-7422-42F4-90DE-1E8305AD52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6E83-7FBE-49AF-A823-5F66D7B2F3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CF728-7F82-49D4-85E2-233CE3F368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585B-EC9C-4FF8-8BF5-E4EC26E538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BD9AA-0C6D-4D31-B11F-7CC274EE4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BDE20-BBD4-4D2C-9C37-CE7D180C0A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55DDE-E88D-4E48-A401-7B04C89E575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B2E2B-80BB-4BE2-9FD8-84035E892BC3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mo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 examples with data discus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0"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ignette(DierckxSpli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Provides more details on the spline fitting and algorith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e"/>
              </a:rPr>
              <a:t>Includes relevant sections from DierckxSpline (199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4112-CF6D-49C4-A32F-60E90DBBB4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1E9E7-CA05-4E83-B453-6C6DF791DA7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6A92D-8B32-4880-8010-CC2FCEC60CF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C2D0-F0B6-4ABF-AA75-C94C9523949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A45F5-7084-4E7D-9E21-731FC7C62AA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52956-5831-4157-A360-1571ECCCD9C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9243F-0842-427C-8E4B-943E0891A0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for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D17C5-37ED-478E-9A25-398D8945F29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6CEE-6323-4CA7-B227-C5364F4B8D9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41F6-F919-4F20-B957-7D18F3A9FD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C03B-753E-4195-B201-951BF457211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7BBA3-1E81-439F-9C28-6F6796FCFC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C761D-E747-4BB3-A388-AA3437FC14D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2EFBC-86A8-4F64-8075-5F00CFD10E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05T23:33:15Z</dcterms:modified>
  <cp:revision>164</cp:revision>
  <dc:subject/>
  <dc:title>minSpline: An R Package For Minimal Knot Splines</dc:title>
</cp:coreProperties>
</file>