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27771"/>
        <c:axId val="23723744"/>
      </c:barChart>
      <c:catAx>
        <c:axId val="64127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23744"/>
        <c:crosses val="autoZero"/>
        <c:auto val="1"/>
        <c:lblAlgn val="ctr"/>
        <c:lblOffset val="100"/>
        <c:noMultiLvlLbl val="0"/>
      </c:catAx>
      <c:valAx>
        <c:axId val="23723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27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F69-C894-4BDB-B1F3-05574F8F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03C-4B12-4A91-9BCA-A1A35237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06C-095E-47DB-9225-3ECED13C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FC7-98D8-4DA4-9B14-6E0BA69E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006-2480-4EF9-94B1-8EDB5B3B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4EC-FBDE-4C01-A55E-0C22A0AB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46E-C806-40D3-83A3-1A7CF145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3BB-789A-41CA-BC7D-CC66E299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461-BFB2-4AB8-ABA1-501B2366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801-32D4-44CD-9247-F541BA9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7D0-C198-402A-8810-569F9260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661-3816-490A-93F2-BE54E5B6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FFBC6-5286-49B3-B958-3E8DC9AC5E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