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20D3D-31F7-42B9-ADAD-8838D34F1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F6DA8-94A7-4844-A71F-B13F30B5D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6BB671-690C-4448-B4BB-BE333983A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E7325-D858-48D5-893C-827A44F75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95319-5191-41B7-BC1A-BBBBA8D40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9BD605-2DC1-4481-84BB-3D43945FF1E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83A1E77-68AF-4CFA-A6DA-C66B83CF0E4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EA97A3F-CA8F-43CC-8746-2D0DBE3EEE7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DF13035-896A-4729-B027-613897DF903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413100D5-8AEA-4D39-835E-3C71B7A6CC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D4EF8-F90D-49B2-B93E-906564E21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5A2E686-B01E-4613-AEB5-A68BCD8096C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7DC66F8-C7B7-4ED2-A49B-8491690EE5C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EB8FBF1-765A-4EC2-9DAA-0E3C0CD22D0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7D802B9-0EA6-457E-ADA1-D3A9711A3FC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B7E5DD1-7974-4462-8933-BE97AC38345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D0828E0-51A7-4D71-8627-6D816AD660B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BDFA9EC-F300-4CDA-85C6-EA0FDC959F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60698-F028-4114-AEE3-E2A76758F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62C74-7DA0-4EBE-97DC-39C140975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C5CB0-AE43-40AE-AF13-11E866623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819FB-6B9B-4952-B36C-52B9C76DD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2CAC3-0853-4D7C-9C0E-682BDC4EF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EF0C0-8805-4651-A63D-13283B809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E143C-A3E0-4A9E-9B07-FF2D97DEF84D}"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3A2A2-D9E1-46F2-BCA6-ED09FD58F81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1EB3A-AA84-49DD-85F3-EFA4C70C1D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BBA96-3C74-4631-B85F-6759290D1F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C045F-5EBA-4D74-BD4B-73C5D568B2F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C9814-A36C-49B4-9385-27BB3C9DBDE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3DD8A-EDA0-4044-8BB8-AF3982F913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3D321-D8F2-4EB5-AA86-9E9DCDCDC8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6699B-E619-4CBF-B330-D9745CEFDD4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DF84F-2DC4-4A4D-8D0F-F2646CFB8F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582CA-9321-44ED-9684-1AC874AA0A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Linux, DO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93238-D9E4-4C7E-A997-FBE446E9C98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5974-F673-4E4F-B811-7F362ECE1C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EE6E8-F474-4EEC-85CF-1E0597907C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318E4-5FAD-45D5-A785-9AB59C4FCA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A99C3-5DFD-447F-A3C4-A9A1BDA40C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AEB7F-2629-4BFA-84C1-DF1F6650C98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843C0-06ED-437A-B290-46DA1EBC4D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AE093-7053-4ACD-A973-C4C7157C0F5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38948-9199-443F-9CD7-069FA6942E4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40A63-A4B2-4C73-8DC4-7691700D622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7388A-59C7-451B-BF90-3D351C5421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D46AB-6276-4D08-8311-BAD2B3503B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A76EC-FA11-4FB5-ACD3-EC9BCC11074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81506-5154-48D0-ABFB-0921AD37DF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8CC2D-882E-4DA2-AC28-8F3B1C1C2E4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67"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68"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7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p:cNvPicPr/>
          <p:nvPr/>
        </p:nvPicPr>
        <p:blipFill>
          <a:blip r:embed="rId1"/>
          <a:stretch/>
        </p:blipFill>
        <p:spPr>
          <a:xfrm>
            <a:off x="2805120" y="2357280"/>
            <a:ext cx="3533760" cy="667080"/>
          </a:xfrm>
          <a:prstGeom prst="rect">
            <a:avLst/>
          </a:prstGeom>
          <a:ln w="0">
            <a:noFill/>
          </a:ln>
        </p:spPr>
      </p:pic>
      <p:sp>
        <p:nvSpPr>
          <p:cNvPr id="272"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s &amp; is Operator</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s</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AFB51-BCCD-4966-B28C-8F3DFB3101B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77"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s 1 &lt; 2 then 'valid' else 'invalid' s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3D767-F2E3-402F-9281-20A87519941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CD5F9-20F6-47C7-9310-AA46186054B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7"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2" descr=""/>
          <p:cNvPicPr/>
          <p:nvPr/>
        </p:nvPicPr>
        <p:blipFill>
          <a:blip r:embed="rId1"/>
          <a:stretch/>
        </p:blipFill>
        <p:spPr>
          <a:xfrm>
            <a:off x="2805120" y="2357280"/>
            <a:ext cx="3533760" cy="667080"/>
          </a:xfrm>
          <a:prstGeom prst="rect">
            <a:avLst/>
          </a:prstGeom>
          <a:ln w="0">
            <a:noFill/>
          </a:ln>
        </p:spPr>
      </p:pic>
      <p:sp>
        <p:nvSpPr>
          <p:cNvPr id="289"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2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D26D3-30A5-4B69-9D81-9FA7043EDF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9D8D-E526-4AAF-83E6-BD04DDDBB7C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22B40-98A7-48A9-8602-3A53401618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FD0E2-DFD1-4968-BD8E-C85E16C2FF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03"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0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3475-0DF8-4150-AFC4-DBF53051FD0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BC93D-08AF-4AC8-94D2-733CEC4987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F8D9C-F79F-40CF-9858-A43E3536166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C65B1-062E-4FCC-ABEA-9473CFF9AA5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2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B2CCF-9A88-444D-A6E1-289D5ED0C3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2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A1B4C-5150-420E-BEB3-852D5526270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3A7B1-2355-4BEA-B6A5-6F56B5A84B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93D00-9A3E-425A-BF99-5592A34AAB9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E0A4C-1069-4EC5-8258-A70C86EA4B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34628-3469-4392-AEF7-5CA962C69A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39"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
          <p:cNvPicPr/>
          <p:nvPr/>
        </p:nvPicPr>
        <p:blipFill>
          <a:blip r:embed="rId1"/>
          <a:stretch/>
        </p:blipFill>
        <p:spPr>
          <a:xfrm>
            <a:off x="2805120" y="2357280"/>
            <a:ext cx="3533760" cy="667080"/>
          </a:xfrm>
          <a:prstGeom prst="rect">
            <a:avLst/>
          </a:prstGeom>
          <a:ln w="0">
            <a:noFill/>
          </a:ln>
        </p:spPr>
      </p:pic>
      <p:sp>
        <p:nvSpPr>
          <p:cNvPr id="341"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06823-0BB2-41FB-9133-EDDD0E8FED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46"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04D1A-53B3-4194-82B1-307BE7E6731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9D0E7-052B-4803-9B08-E8BEE85DAB0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0D31E-5A14-41FA-913E-CF4B1BBD43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36C41-17D6-4BCA-BEB8-77DAFF6872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31F3F-0B10-4F53-8168-C28A624DFB9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5BC9E-BCBC-4F76-9785-BC0F8534AA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7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F0F0-72A6-4F64-8516-E9084E85FEC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75"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3DD3B-5589-4646-B5E6-99601DAA57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hteck 5"/>
          <p:cNvSpPr/>
          <p:nvPr/>
        </p:nvSpPr>
        <p:spPr>
          <a:xfrm>
            <a:off x="900000" y="207324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B098D-7F2B-424D-8B47-B23EFE284BF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3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A239-65E9-4323-9E47-252A621D06C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D2954-05E9-4786-8887-CDB653FCB7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3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9263D-41BF-4E13-8244-245A581CD2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9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2" descr=""/>
          <p:cNvPicPr/>
          <p:nvPr/>
        </p:nvPicPr>
        <p:blipFill>
          <a:blip r:embed="rId1"/>
          <a:stretch/>
        </p:blipFill>
        <p:spPr>
          <a:xfrm>
            <a:off x="2805120" y="2357280"/>
            <a:ext cx="3533760" cy="667080"/>
          </a:xfrm>
          <a:prstGeom prst="rect">
            <a:avLst/>
          </a:prstGeom>
          <a:ln w="0">
            <a:noFill/>
          </a:ln>
        </p:spPr>
      </p:pic>
      <p:sp>
        <p:nvSpPr>
          <p:cNvPr id="39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BC276-B77E-4203-AEF8-EE2523E2B02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4542A-96AE-4BF6-BDCC-825DEEE0B87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0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 descr=""/>
          <p:cNvPicPr/>
          <p:nvPr/>
        </p:nvPicPr>
        <p:blipFill>
          <a:blip r:embed="rId1"/>
          <a:stretch/>
        </p:blipFill>
        <p:spPr>
          <a:xfrm>
            <a:off x="2805120" y="2357280"/>
            <a:ext cx="3533760" cy="667080"/>
          </a:xfrm>
          <a:prstGeom prst="rect">
            <a:avLst/>
          </a:prstGeom>
          <a:ln w="0">
            <a:noFill/>
          </a:ln>
        </p:spPr>
      </p:pic>
      <p:sp>
        <p:nvSpPr>
          <p:cNvPr id="40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60E3B-6F66-415B-93C9-E78D36267A5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0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amp;&am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with</a:t>
            </a:r>
            <a:r>
              <a:rPr b="0" lang="en-GB" sz="2000" spc="-1" strike="noStrike">
                <a:solidFill>
                  <a:srgbClr val="000000"/>
                </a:solidFill>
                <a:latin typeface="Arial"/>
                <a:ea typeface="Arial"/>
              </a:rPr>
              <a:t> or </a:t>
            </a:r>
            <a:r>
              <a:rPr b="0" lang="en-GB" sz="1800" spc="-1" strike="noStrike">
                <a:solidFill>
                  <a:srgbClr val="000000"/>
                </a:solidFill>
                <a:latin typeface="Courier New"/>
                <a:ea typeface="Courier New"/>
              </a:rPr>
              <a:t>readlib</a:t>
            </a:r>
            <a:r>
              <a:rPr b="0" lang="en-GB" sz="2000" spc="-1" strike="noStrike">
                <a:solidFill>
                  <a:srgbClr val="000000"/>
                </a:solidFill>
                <a:latin typeface="Arial"/>
                <a:ea typeface="Arial"/>
              </a:rPr>
              <a:t> functions, e.g. </a:t>
            </a:r>
            <a:r>
              <a:rPr b="0" lang="en-GB" sz="1800" spc="-1" strike="noStrike">
                <a:solidFill>
                  <a:srgbClr val="000000"/>
                </a:solidFill>
                <a:latin typeface="Courier New"/>
                <a:ea typeface="Courier New"/>
              </a:rPr>
              <a:t>with 'calc'</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6E2E3-A656-44E8-90F0-9A8EDB0162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DF9B9-A5E0-4674-971F-41DF2B11F08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13496-F6DC-4A7C-A6B3-9ED7336B3D6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0" name=""/>
          <p:cNvGraphicFramePr/>
          <p:nvPr/>
        </p:nvGraphicFramePr>
        <p:xfrm>
          <a:off x="900000" y="1727280"/>
          <a:ext cx="7858080" cy="25606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25958-2E63-4FA6-AB33-D36641E41F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03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467A7-D759-4C04-8A6E-98986E52D5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28" name="Picture 2" descr="Manual"/>
          <p:cNvPicPr/>
          <p:nvPr/>
        </p:nvPicPr>
        <p:blipFill>
          <a:blip r:embed="rId1"/>
          <a:stretch/>
        </p:blipFill>
        <p:spPr>
          <a:xfrm>
            <a:off x="6143760" y="1643040"/>
            <a:ext cx="2857320" cy="2143080"/>
          </a:xfrm>
          <a:prstGeom prst="rect">
            <a:avLst/>
          </a:prstGeom>
          <a:ln w="0">
            <a:noFill/>
          </a:ln>
        </p:spPr>
      </p:pic>
      <p:pic>
        <p:nvPicPr>
          <p:cNvPr id="42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Windows, and Mac OS X, the respective installer automatically installs and sets up Agena. 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version is included in the manual.</a:t>
            </a:r>
            <a:endParaRPr b="0" lang="en-US" sz="20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gena has been compiled successfully in OS/2 and Haiku in the past.</a:t>
            </a:r>
            <a:endParaRPr b="0" lang="en-US" sz="1800" spc="-1" strike="noStrike">
              <a:solidFill>
                <a:srgbClr val="000000"/>
              </a:solidFill>
              <a:latin typeface="Calibri"/>
            </a:endParaRPr>
          </a:p>
          <a:p>
            <a:pPr marL="343080" indent="-343080">
              <a:lnSpc>
                <a:spcPct val="10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1144D-6D06-4026-9AD7-18DF8AEA9B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F3086-4A87-47DE-8DA4-0F9B53EE44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412272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3-12-29T21:45:21Z</dcterms:modified>
  <cp:revision>444</cp:revision>
  <dc:subject/>
  <dc:title>Agena Language Summary</dc:title>
</cp:coreProperties>
</file>